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886-2F61-4899-A0A1-10586B3B5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4D5-FFD5-44BE-8A67-6AF24C67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280-0B3A-417D-9ADC-2BA18D73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E8B-2ED9-4B4E-AFC5-521C8901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EBF-8861-49D4-9BD5-4C42ADD1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238-B819-4EB3-9C75-B886EF51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AE7-1B70-40DA-9AB5-765F1C60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E75-CCF8-4745-A55F-4F92E18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039-D1C4-40B6-A692-CA34A474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CD9-4E1E-4C16-80C4-DD467FF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411-5703-4D21-9322-4CF7C042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350-010C-433F-BDE0-7342EA5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EA8-21B4-40F0-BBCE-0BE45F5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EBD-3117-4A28-BE12-B6E7D16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4BDA-EDCE-4FBF-90AB-975D66A5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risty Latsou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hristy Latsou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hristy Latsounas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hristy Latsouna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9718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hristy Latso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2"/>
          <p:cNvSpPr/>
          <p:nvPr/>
        </p:nvSpPr>
        <p:spPr>
          <a:xfrm>
            <a:off x="762120" y="57150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wee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4"/>
          <p:cNvSpPr/>
          <p:nvPr/>
        </p:nvSpPr>
        <p:spPr>
          <a:xfrm>
            <a:off x="152280" y="6324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ok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371600" y="57913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lve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Ani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Tiene el libros de matemáticas.¿ Dónde estás cookie?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cook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días, muy bien. ¿Que es la terea ? .¿ Tienes  tus libros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matemática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Sylvester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omo está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Él está en su cuarto grande y reluciente. Yo no se cookie. Est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juntos ahora. Nuestros amigos llegan. Tu carro está  aquí. Nosotros som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Guapos y buscamos tweety ahor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Anim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eno ahora.¿ Por qué eres tú guapo? No importa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Sylv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soy guapo, cha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765360" y="640080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28600" y="3733920"/>
            <a:ext cx="1600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bre es christy. Tengo 14 años. Estoy feliz. Vivo en New york. Amo  cantar y bailar. Hago gimnasia. Escucho música loc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1" descr="551524_497579363608127_481304548_n"/>
          <p:cNvPicPr/>
          <p:nvPr/>
        </p:nvPicPr>
        <p:blipFill>
          <a:blip r:embed="rId1"/>
          <a:stretch/>
        </p:blipFill>
        <p:spPr>
          <a:xfrm>
            <a:off x="152280" y="838080"/>
            <a:ext cx="1524240" cy="13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3" descr="ANd9GcTV69yPXS68d1YRSpVN2tZd0v6c-sdrpaIslawEtFftBzY89Reg"/>
          <p:cNvPicPr/>
          <p:nvPr/>
        </p:nvPicPr>
        <p:blipFill>
          <a:blip r:embed="rId2"/>
          <a:stretch/>
        </p:blipFill>
        <p:spPr>
          <a:xfrm>
            <a:off x="152280" y="5257800"/>
            <a:ext cx="533520" cy="42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5" descr="ANd9GcRa8e_m7-RDFwIelu_UhP5Wd4rSItYO85G1LcA3cxMTl0Yylc8wWQ"/>
          <p:cNvPicPr/>
          <p:nvPr/>
        </p:nvPicPr>
        <p:blipFill>
          <a:blip r:embed="rId3"/>
          <a:stretch/>
        </p:blipFill>
        <p:spPr>
          <a:xfrm>
            <a:off x="838080" y="52578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ANd9GcQf5mJR3sD-OlOaCkm8vTiLZ_GKFKWeC4aJTgmChLwod8AMhfy6"/>
          <p:cNvPicPr/>
          <p:nvPr/>
        </p:nvPicPr>
        <p:blipFill>
          <a:blip r:embed="rId4"/>
          <a:stretch/>
        </p:blipFill>
        <p:spPr>
          <a:xfrm>
            <a:off x="1371600" y="5257800"/>
            <a:ext cx="461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9" descr="ANd9GcS_eJE2CB7yF7ZqHgF62vmxxKTULrOp3Qq0TNTLeXZv4X7MliEJ6Q"/>
          <p:cNvPicPr/>
          <p:nvPr/>
        </p:nvPicPr>
        <p:blipFill>
          <a:blip r:embed="rId5"/>
          <a:stretch/>
        </p:blipFill>
        <p:spPr>
          <a:xfrm>
            <a:off x="2133720" y="32004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2" descr="ANd9GcQp2xjpl3aCtxUS7FZbN3aLGN2HFkYFXIUUglxQsvCBBeoEZy20"/>
          <p:cNvPicPr/>
          <p:nvPr/>
        </p:nvPicPr>
        <p:blipFill>
          <a:blip r:embed="rId6"/>
          <a:stretch/>
        </p:blipFill>
        <p:spPr>
          <a:xfrm>
            <a:off x="838080" y="594360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ANd9GcQf5mJR3sD-OlOaCkm8vTiLZ_GKFKWeC4aJTgmChLwod8AMhfy6"/>
          <p:cNvPicPr/>
          <p:nvPr/>
        </p:nvPicPr>
        <p:blipFill>
          <a:blip r:embed="rId7"/>
          <a:stretch/>
        </p:blipFill>
        <p:spPr>
          <a:xfrm>
            <a:off x="2209680" y="2590920"/>
            <a:ext cx="46224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9" descr="ANd9GcS_eJE2CB7yF7ZqHgF62vmxxKTULrOp3Qq0TNTLeXZv4X7MliEJ6Q"/>
          <p:cNvPicPr/>
          <p:nvPr/>
        </p:nvPicPr>
        <p:blipFill>
          <a:blip r:embed="rId8"/>
          <a:stretch/>
        </p:blipFill>
        <p:spPr>
          <a:xfrm>
            <a:off x="152280" y="594360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ANd9GcQp2xjpl3aCtxUS7FZbN3aLGN2HFkYFXIUUglxQsvCBBeoEZy20"/>
          <p:cNvPicPr/>
          <p:nvPr/>
        </p:nvPicPr>
        <p:blipFill>
          <a:blip r:embed="rId9"/>
          <a:stretch/>
        </p:blipFill>
        <p:spPr>
          <a:xfrm>
            <a:off x="2133720" y="3809880"/>
            <a:ext cx="461880" cy="46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7" descr="ANd9GcQf5mJR3sD-OlOaCkm8vTiLZ_GKFKWeC4aJTgmChLwod8AMhfy6"/>
          <p:cNvPicPr/>
          <p:nvPr/>
        </p:nvPicPr>
        <p:blipFill>
          <a:blip r:embed="rId10"/>
          <a:stretch/>
        </p:blipFill>
        <p:spPr>
          <a:xfrm>
            <a:off x="2133720" y="4419720"/>
            <a:ext cx="46188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2" descr="ANd9GcQp2xjpl3aCtxUS7FZbN3aLGN2HFkYFXIUUglxQsvCBBeoEZy20"/>
          <p:cNvPicPr/>
          <p:nvPr/>
        </p:nvPicPr>
        <p:blipFill>
          <a:blip r:embed="rId11"/>
          <a:stretch/>
        </p:blipFill>
        <p:spPr>
          <a:xfrm>
            <a:off x="2133720" y="525780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7" descr="ANd9GcQf5mJR3sD-OlOaCkm8vTiLZ_GKFKWeC4aJTgmChLwod8AMhfy6"/>
          <p:cNvPicPr/>
          <p:nvPr/>
        </p:nvPicPr>
        <p:blipFill>
          <a:blip r:embed="rId12"/>
          <a:stretch/>
        </p:blipFill>
        <p:spPr>
          <a:xfrm>
            <a:off x="2209680" y="5943600"/>
            <a:ext cx="4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3:27:01Z</dcterms:created>
  <dc:creator>FriscoISD</dc:creator>
  <dc:description/>
  <dc:language>en-US</dc:language>
  <cp:lastModifiedBy>User</cp:lastModifiedBy>
  <dcterms:modified xsi:type="dcterms:W3CDTF">2013-01-02T13:54:35Z</dcterms:modified>
  <cp:revision>109</cp:revision>
  <dc:subject/>
  <dc:title>Profile</dc:title>
</cp:coreProperties>
</file>